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CFE-3CB2-4BB6-9D8F-A959F9EC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DBE-8BAA-46DA-B44A-29661963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458B-2736-499A-9590-CB01AE46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AFD-2A18-4721-A103-4A920C41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D47-3F58-498A-8D4A-F78C6C94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4690-B888-4261-B946-1440CEEB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BAA-8009-4DAB-96E0-25CC3182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656-093C-4F08-BDC2-7A9FAD9D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22EF-0FBD-43A4-B524-977300F5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BB7-EAD2-4043-A367-13303348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6DF5-A67A-4853-934D-D4CF1342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800-8D05-4CA1-A4CC-30D21E9A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E019-A7EA-495E-A772-660B9CA0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5D9-0A7E-41F7-9054-F9A45C92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F2E-C402-4196-8355-C5BD805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110-8773-4FBD-9077-1AF3B5A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C1-0987-4E29-A7A7-8CA733A2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4BE-DAD2-48FE-81B2-9C579B2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074-1978-470B-A2CA-AA6741B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EA9-66C0-4D46-9B8C-8421122A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EF9-2B9C-4569-AEC2-85693E8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B14-716B-4C58-A3E7-2A481EB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55E-0957-4D39-892E-608DF3C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05C-EE23-4D39-A8B8-7832A9A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DFA-0CB5-4EA4-9288-853E9E2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3C5-FCDF-479B-8DC0-C12E7F812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atural Logarithmic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ARITHMIC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logarithms of both sides of an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use the laws of logarithms to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 implicitly with resp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resulting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80880" y="213372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use this information to help us solve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fferenti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ln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3009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: y=3ln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1295280" y="3200400"/>
                <a:ext cx="711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303840" y="335268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’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911600" y="342900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277920" y="4495680"/>
                <a:ext cx="47005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47840" y="6005520"/>
                <a:ext cx="25318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fferenti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ln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3009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ite: y=3ln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295280" y="3200400"/>
                <a:ext cx="711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Rectangle 5"/>
          <p:cNvSpPr/>
          <p:nvPr/>
        </p:nvSpPr>
        <p:spPr>
          <a:xfrm>
            <a:off x="303840" y="335268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’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911600" y="342900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277920" y="4495680"/>
                <a:ext cx="47005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447840" y="6005520"/>
                <a:ext cx="38955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ATURAL LOGARITHMIC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21337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natural logarithmic fun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function defin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1066680" y="3962520"/>
                <a:ext cx="46483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7"/>
          <p:cNvSpPr/>
          <p:nvPr/>
        </p:nvSpPr>
        <p:spPr>
          <a:xfrm>
            <a:off x="457200" y="6019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ember this from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ng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RIVATIVE OF THE NATURAL LOGARITHMIC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85840" y="2540160"/>
            <a:ext cx="62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the Fundamental Theorem of Calculus, Part 1, we see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600200" y="3962520"/>
                <a:ext cx="282096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Rectangle 6"/>
          <p:cNvSpPr/>
          <p:nvPr/>
        </p:nvSpPr>
        <p:spPr>
          <a:xfrm>
            <a:off x="993600" y="5867280"/>
            <a:ext cx="46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ember we discus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n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WS OF LOGA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1905120"/>
            <a:ext cx="6286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se rules for loga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ositive number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ational number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838080" y="4952880"/>
                <a:ext cx="4876920" cy="281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04920" y="3733920"/>
            <a:ext cx="622908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n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, 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graph of  l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cave down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514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THE NATURAL LOGARITHMIC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057400" y="4648320"/>
                <a:ext cx="2819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3720" y="6858000"/>
                <a:ext cx="3429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8"/>
          <p:cNvSpPr/>
          <p:nvPr/>
        </p:nvSpPr>
        <p:spPr>
          <a:xfrm>
            <a:off x="462960" y="2082960"/>
            <a:ext cx="60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calculus, we can descri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atural logarithmic fun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06960" y="32767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member x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685800" y="1600200"/>
                <a:ext cx="5238720" cy="27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Rectangle 5"/>
          <p:cNvSpPr/>
          <p:nvPr/>
        </p:nvSpPr>
        <p:spPr>
          <a:xfrm>
            <a:off x="609480" y="4267080"/>
            <a:ext cx="205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onsistent with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about the graph of l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41911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RIVATIVE OF THE NATURAL LOGARITHM AND THE CH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1066680" y="2743200"/>
                <a:ext cx="43056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529200" y="510552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introduced this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DERIVATIVES INVOLVING THE NATURAL LOGA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9960" y="2438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85800" y="3200400"/>
                <a:ext cx="48006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Rectangle 7"/>
          <p:cNvSpPr/>
          <p:nvPr/>
        </p:nvSpPr>
        <p:spPr>
          <a:xfrm>
            <a:off x="609480" y="5410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member the domain of the natural log is positive real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DERIVATIVES OF SOME TRIGONOMETR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533520" y="2438280"/>
                <a:ext cx="3257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514440" y="3686040"/>
                <a:ext cx="32004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514440" y="4865760"/>
                <a:ext cx="4172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457200" y="6126120"/>
                <a:ext cx="4172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1"/>
          <p:cNvSpPr/>
          <p:nvPr/>
        </p:nvSpPr>
        <p:spPr>
          <a:xfrm>
            <a:off x="1294560" y="7010280"/>
            <a:ext cx="27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emoriz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01:40:46Z</dcterms:created>
  <dc:creator>Allen Fuller</dc:creator>
  <dc:description/>
  <dc:language>en-US</dc:language>
  <cp:lastModifiedBy>sraja</cp:lastModifiedBy>
  <dcterms:modified xsi:type="dcterms:W3CDTF">2011-04-12T18:08:50Z</dcterms:modified>
  <cp:revision>15</cp:revision>
  <dc:subject/>
  <dc:title>Section 7.2*</dc:title>
</cp:coreProperties>
</file>